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0372-5E81-4826-98F4-255980E2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6909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3883680"/>
            <a:ext cx="6909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E558-F773-4958-9FB9-6009FFB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388368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88368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36BC-E6AA-4FF3-9A05-3EEF5B36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71432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71432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388368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388368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3883680"/>
            <a:ext cx="222444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FAE5-032D-4B8E-9FC3-CD34E662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714320"/>
            <a:ext cx="690912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F433-F5D8-49BF-B275-3762C546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690912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67D0-86AF-4284-A7AE-DAF3C0F4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3371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714320"/>
            <a:ext cx="3371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CD6D-D680-404D-839B-46AA3A3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9EB0-4069-44EE-941A-1A98E84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22824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3E84-5849-4ED5-8D32-1D422B3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714320"/>
            <a:ext cx="3371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388368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A999-73EA-4E57-B4C8-77EF994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3371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88368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BDB9-2379-442B-A647-6ED26AA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714320"/>
            <a:ext cx="3371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3883680"/>
            <a:ext cx="690912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13EB-7B73-4571-A3BC-73E64AD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714320"/>
            <a:ext cx="690912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AFF8-FDC3-4B39-8CFD-8B5FC1917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7760" y="3230640"/>
            <a:ext cx="27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Times New Roman"/>
              </a:rPr>
              <a:t>Harry Campb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58128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lon Cancer Genetics Group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amp; Public Health Scienc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dinburgh Un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4640" y="5943600"/>
            <a:ext cx="15908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48240" y="5943600"/>
            <a:ext cx="2571480" cy="90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95280" y="5943600"/>
            <a:ext cx="228312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biological resource to study genetic contribution to colorectal canc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39880" y="1224000"/>
          <a:ext cx="7983360" cy="37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224000"/>
                    <a:ext cx="798336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79440" y="382104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Cod Liver Oil          1000 m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344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even S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3049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58200" y="3962520"/>
            <a:ext cx="3049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Nutrient allo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od group s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utrients and minerals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UK National Nutrient Databank based on McCance and Widdowson’s The Composition of Foods (5th edi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lavonoids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Kyle JAM, Duthie GG(2006) Flavonoids in Foods In: Flavonoids: Chemistry, Biochemistry and Applications. Taylor &amp; Franci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tty acids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 of McCance and Widdowson’s “The Composition of Foods (5th edition)” and FOOD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hytoestroge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7440" y="228600"/>
            <a:ext cx="69091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vironmental exposures: 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cent finding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7440" y="1341360"/>
            <a:ext cx="69091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heodoratou E, McNeill G, Cetnarskyj R, Farrington S, Tenesa A, Barnetson R, Porteous M, Dunlop M, Campbell H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etary fatty acids and colorectal cancer: a case control study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mer J Epidemio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007; 166: 181 -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doratou E, Kyle J, Cetnarskyj R, Farrington S, Tenesa A, Barnetson R, Porteous M, Dunlop M, Campbell H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etary flavonoids and the risk of colorectal cancer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ancer Epidemiol Biomarkers Prev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007; 16: 684-9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ontribution of mutations in DNA mismatch repair ge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=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70 colorectal cancer pati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5120" y="3862440"/>
          <a:ext cx="497196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62440"/>
                    <a:ext cx="497196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35320" y="2530440"/>
            <a:ext cx="8190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thogenic mutation frequency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4.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le     (27/462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male (11/408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&lt;0.037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urvival analysis: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MR mutation carr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511280"/>
            <a:ext cx="82803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tudy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7440" y="1196640"/>
            <a:ext cx="690912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ffff"/>
                </a:solidFill>
                <a:latin typeface="Times New Roman"/>
              </a:rPr>
              <a:t>Genetic associatio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didate SNPty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stematic genome scan by L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ozygosity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ffff"/>
                </a:solidFill>
                <a:latin typeface="Times New Roman"/>
              </a:rPr>
              <a:t>Interaction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-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-gen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-15228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ssociation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022400"/>
            <a:ext cx="830556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idence f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Effect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s        Contr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sociation       (R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Cyclin D1 (CCND1) 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2247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1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mEPHX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NO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2287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1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APC (E1317Q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N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2804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7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MYH (</a:t>
            </a:r>
            <a:r>
              <a:rPr b="0" i="1" lang="en-GB" sz="2200" spc="-1" strike="noStrike">
                <a:solidFill>
                  <a:srgbClr val="f95ab7"/>
                </a:solidFill>
                <a:latin typeface="Arial"/>
              </a:rPr>
              <a:t>MutY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) 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 Hom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Y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9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217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82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( CI  41-21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Het 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95ab7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&gt;55yrs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27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7273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17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( CI  1.00-1.7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495680"/>
            <a:ext cx="8610480" cy="167652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752480"/>
            <a:ext cx="8610480" cy="2362320"/>
          </a:xfrm>
          <a:prstGeom prst="rect">
            <a:avLst/>
          </a:prstGeom>
          <a:noFill/>
          <a:ln w="19080">
            <a:solidFill>
              <a:srgbClr val="f80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ssociation approach results: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YH mu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511280"/>
            <a:ext cx="82803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ioinformatics-guided candidate gene selection</a:t>
            </a:r>
            <a:br>
              <a:rPr sz="3200"/>
            </a:b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DNA repair ge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28800"/>
            <a:ext cx="8305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Repair gene class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GO ID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              #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A repai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8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e-excision repai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8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A dealky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3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A lig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6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uble-strand break rep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3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smatch repai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98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otide-excision rep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st-replicative rep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3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ulation of DNA rep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628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strand break rep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:00000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143680"/>
                <a:tab algn="r" pos="7524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NA repair as a candidate pathway approach to genetic assoc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3920" y="1905120"/>
            <a:ext cx="66211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0 cases enriched for genetic a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0 matched population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22 SNP mar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p to 9 markers/g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nes hap-tag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6 genes covered in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ustom genotyping array (Illumina platfo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78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72505"/>
                </a:solidFill>
                <a:latin typeface="Times New Roman"/>
                <a:ea typeface="Times New Roman"/>
              </a:rPr>
              <a:t>Colon Cancer Genetics Group</a:t>
            </a:r>
            <a:br>
              <a:rPr sz="4000"/>
            </a:br>
            <a:r>
              <a:rPr b="0" lang="en-GB" sz="3600" spc="-1" strike="noStrike">
                <a:solidFill>
                  <a:srgbClr val="e72505"/>
                </a:solidFill>
                <a:latin typeface="Times New Roman"/>
                <a:ea typeface="Times New Roman"/>
              </a:rPr>
              <a:t>Genetic Susceptibil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7040" y="1668600"/>
            <a:ext cx="3429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Rebecca Barnet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Albert Ten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Kate Drew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Naila H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Nicola Cartw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Ruth Wil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7240" y="5962680"/>
            <a:ext cx="151308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20760" y="5950080"/>
            <a:ext cx="2544840" cy="76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07040" y="5927760"/>
            <a:ext cx="1822680" cy="75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26040" y="3397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rogramme PI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lcolm Dun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arry Campb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040" y="41068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Susan Farr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Alice Wiltsh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James Prenderga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ory Mitch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2440" y="148104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19191"/>
                </a:solidFill>
                <a:latin typeface="Comic Sans MS"/>
              </a:rPr>
              <a:t>Roseanne Cetnarsky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19191"/>
                </a:solidFill>
                <a:latin typeface="Comic Sans MS"/>
              </a:rPr>
              <a:t>Maureen Ed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19191"/>
                </a:solidFill>
                <a:latin typeface="Comic Sans MS"/>
              </a:rPr>
              <a:t>Gisela B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19191"/>
                </a:solidFill>
                <a:latin typeface="Comic Sans MS"/>
              </a:rPr>
              <a:t>Rosa Bi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19191"/>
                </a:solidFill>
                <a:latin typeface="Comic Sans MS"/>
              </a:rPr>
              <a:t>SOCCS research 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60520" y="5019840"/>
            <a:ext cx="2513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72505"/>
                </a:solidFill>
                <a:latin typeface="Comic Sans MS"/>
              </a:rPr>
              <a:t>[Jack Satsan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72505"/>
                </a:solidFill>
                <a:latin typeface="Comic Sans MS"/>
              </a:rPr>
              <a:t>Duncan Jodrell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25600" y="2332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ole Genome Scanning by assoc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n Colorectal Canc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" y="1766880"/>
            <a:ext cx="81968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y of contribution of common genetic variation to diseas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y of contribution of common genetic variation to surviv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plication requires at least similar size coh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ne-environment inte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utational and analytical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w pathways identified require functional and other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ole genome scan by genetic associa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066680"/>
            <a:ext cx="8053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0 cases enriched for genetic aetiology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age selec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0 matched population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550,000 SNP markers (Hap300 then Hap220 array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erarchical approach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ase 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0/1000 -&gt; rank p-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ase 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00/2000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+2500/2500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60,000 SN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ase 3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ollaboration with other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ll rates &gt; 99.8%; QQ plot slope 1.003; 1400 out of H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2520" y="1219320"/>
            <a:ext cx="9141480" cy="4178160"/>
            <a:chOff x="2520" y="1219320"/>
            <a:chExt cx="9141480" cy="41781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6320" y="1219320"/>
              <a:ext cx="4495680" cy="41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520" y="4876920"/>
              <a:ext cx="25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IBM Blue Ge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1440000"/>
              <a:ext cx="457200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First IBM eServer Blue Gene system in Euro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024 node, 2048 process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heoretical peak performance of 5.7 TFlo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92280" y="30960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dinburgh Parallel Computing Cent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680" y="5807160"/>
            <a:ext cx="88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velopment work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52 processor Sun E15K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ssociated data storag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155Tbyte 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enome wide scan initial 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1257480"/>
            <a:ext cx="77770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ene environment interacti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trengths of resour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690912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rge sample si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,500 cases and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pulation-based prospectiv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ll matche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ge, sex, region, ancestry, storage and handling of s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linkage to health service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aths, cancers, hospitalisation, pr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vailable geno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u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ertise in functio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ene environment interacti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eaknesses of resour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7440" y="1714320"/>
            <a:ext cx="690912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od frequency questionnaire only measure of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measure of environmental exposure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ow diversity in environmental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mple size – large but not large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4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21080" y="1523880"/>
            <a:ext cx="638280" cy="1214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122440" y="1371600"/>
            <a:ext cx="668520" cy="1355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006520" y="4076640"/>
            <a:ext cx="784440" cy="1409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421080" y="4216320"/>
            <a:ext cx="685800" cy="12700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8968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5960" y="3429000"/>
            <a:ext cx="1287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0760" y="2368440"/>
            <a:ext cx="2765520" cy="1951200"/>
          </a:xfrm>
          <a:prstGeom prst="ellipse">
            <a:avLst/>
          </a:prstGeom>
          <a:solidFill>
            <a:srgbClr val="ef9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1080" y="2871720"/>
            <a:ext cx="25732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Population-bas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genetic analys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n Sco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7000" y="2514600"/>
            <a:ext cx="1587600" cy="175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28600"/>
            <a:ext cx="1424160" cy="1521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8760" y="76212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rge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63440"/>
            <a:ext cx="1828800" cy="1741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3960" y="488880"/>
            <a:ext cx="1617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orec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pecia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087680" y="2658960"/>
            <a:ext cx="1489680" cy="1533600"/>
            <a:chOff x="7087680" y="2658960"/>
            <a:chExt cx="1489680" cy="1533600"/>
          </a:xfrm>
        </p:grpSpPr>
        <p:sp>
          <p:nvSpPr>
            <p:cNvPr id="71" name=""/>
            <p:cNvSpPr/>
            <p:nvPr/>
          </p:nvSpPr>
          <p:spPr>
            <a:xfrm>
              <a:off x="7115040" y="2658960"/>
              <a:ext cx="1435320" cy="153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7680" y="2832120"/>
              <a:ext cx="1489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H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ath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La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257800" y="5037120"/>
            <a:ext cx="1658880" cy="174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4960" y="5343480"/>
            <a:ext cx="1337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2880" y="3124080"/>
            <a:ext cx="169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colog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495680"/>
            <a:ext cx="3276360" cy="2362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90920" y="6033960"/>
            <a:ext cx="1981080" cy="59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5869080"/>
            <a:ext cx="1506240" cy="912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5800" y="5410080"/>
            <a:ext cx="244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nding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057400" y="4695840"/>
            <a:ext cx="152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62120" y="990720"/>
          <a:ext cx="769608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960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tic enrichment</a:t>
            </a:r>
            <a:br>
              <a:rPr sz="4400"/>
            </a:b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ge of onset and F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181480"/>
            <a:ext cx="8839080" cy="1678680"/>
          </a:xfrm>
          <a:prstGeom prst="rect">
            <a:avLst/>
          </a:prstGeom>
          <a:noFill/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21160"/>
                <a:tab algn="r" pos="4379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ruitment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May 0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521160"/>
                <a:tab algn="r" pos="4379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GS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00ffff"/>
                </a:solidFill>
                <a:latin typeface="Times New Roman"/>
              </a:rPr>
              <a:t>(70% of all cases in popul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521160"/>
                <a:tab algn="r" pos="4379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OCCS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50% participation)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521160"/>
                <a:tab algn="r" pos="4379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ll prospective cohort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~3500/3500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47920" y="3657600"/>
            <a:ext cx="2971440" cy="368280"/>
            <a:chOff x="1447920" y="3657600"/>
            <a:chExt cx="2971440" cy="368280"/>
          </a:xfrm>
        </p:grpSpPr>
        <p:sp>
          <p:nvSpPr>
            <p:cNvPr id="86" name=""/>
            <p:cNvSpPr/>
            <p:nvPr/>
          </p:nvSpPr>
          <p:spPr>
            <a:xfrm>
              <a:off x="2574000" y="365760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ffff"/>
                  </a:solidFill>
                  <a:latin typeface="Times New Roman"/>
                </a:rPr>
                <a:t>9.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447920" y="3840120"/>
              <a:ext cx="1087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32160" y="3840120"/>
              <a:ext cx="1087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447920" y="1523880"/>
            <a:ext cx="5714640" cy="368280"/>
            <a:chOff x="1447920" y="1523880"/>
            <a:chExt cx="5714640" cy="368280"/>
          </a:xfrm>
        </p:grpSpPr>
        <p:sp>
          <p:nvSpPr>
            <p:cNvPr id="90" name=""/>
            <p:cNvSpPr/>
            <p:nvPr/>
          </p:nvSpPr>
          <p:spPr>
            <a:xfrm>
              <a:off x="4008600" y="15238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9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571640" y="1707840"/>
              <a:ext cx="2590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447920" y="1707840"/>
              <a:ext cx="2590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377720" y="3397320"/>
            <a:ext cx="20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ff"/>
                </a:solidFill>
                <a:latin typeface="Arial"/>
              </a:rPr>
              <a:t>COGS target gro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6280" y="137160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OCCS target gro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henotype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ase and Matched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7360" y="1371600"/>
            <a:ext cx="81039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dentifier data (linked to ISD and flagged with GRO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-morbidity index, pre-existing IBD/polyp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morbid BMI and waist measure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thnicity, family history, ancestry (residence of grandparent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ducation and employ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7360" y="1371600"/>
            <a:ext cx="8103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dentifier data (linked to ISD and flagged with GRO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-morbidity index, pre-existing IBD/polyp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morbid BMI and waist measure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thnicity, family history, ancestry (residence of grandparent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ducation and employ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Environmental exposu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moking and alcoho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Exercise activi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rug history (esp NSAID &amp; HR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Menstrual and reproductive Hx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Food frequency questionnai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7360" y="1371600"/>
            <a:ext cx="81039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dentifier data (linked to ISD and flagged with GRO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-morbidity index, pre-existing IBD/polyp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morbid BMI and waist measure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thnicity, family history, ancestry (residence of grandparent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ducation and employ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nvironmental exposu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moking and alcoho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ercise activi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rug history (esp NSAID &amp; HR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enstrual and reproductive Hx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od frequency questionnai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umour pathology &amp; stage, op. details, adjuvant therap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urvival outcom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iological S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ase and Matched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2960" y="2281320"/>
            <a:ext cx="41126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iable lymphoc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Lymphoblastoid cell li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umour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rmal co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087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verview of data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7440" y="836640"/>
            <a:ext cx="690912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NA / plasma / PB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3500 cases and 3500 controls (access to larger number of contro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graph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3500 cases and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oking; alcohol; aspirin/NS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2100 – 2300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od frequency questionnair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2100 cases and 2800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2200 cases and 2800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umour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3400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motherapy / radiotherapy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2000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for survival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bout 3400 cases (1000 deaths to d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297080" y="1123920"/>
          <a:ext cx="6426000" cy="56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123920"/>
                    <a:ext cx="642600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05040" y="26028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Lifestyle and Cancer Questionna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02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tabases &amp; Varia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king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oking status, Level of smoking, Duration of smoking, Years since cessation (for former smokers), Pack-years of smoking, Combined Smoking Index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ysical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 of occupational with recreational physical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categories: Inactive, Moderately Inactive, Moderately Active,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different ways of combination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ug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inkillers, Anti-Inflammatory Non-steroidal Drugs [NSAIDs], stomach tablets or medicine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men’s Health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rmonal Replacement Therapy, Oral Contraceptives Int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thropometric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MI (Body Mass Index), Waist Circumference, Estimated BMR (Basic Metabolic Rate), LER (Low Energy Reporter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alcolm Dunlop</dc:creator>
  <dc:description/>
  <dc:language>en-US</dc:language>
  <cp:lastModifiedBy>Harry</cp:lastModifiedBy>
  <cp:lastPrinted>2001-04-24T18:22:02Z</cp:lastPrinted>
  <dcterms:modified xsi:type="dcterms:W3CDTF">2007-07-18T11:44:02Z</dcterms:modified>
  <cp:revision>1091</cp:revision>
  <dc:subject/>
  <dc:title>No Slide Title</dc:title>
</cp:coreProperties>
</file>