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FC596-814C-4E2E-9F6D-2651045ADD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94920" y="3874680"/>
            <a:ext cx="8497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4F62D-64EE-43AD-8019-ED31B287BF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414684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9480" y="1413000"/>
            <a:ext cx="414684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94920" y="3874680"/>
            <a:ext cx="414684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9480" y="3874680"/>
            <a:ext cx="414684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BB4ED-3967-40FA-9B06-4C4A3436BB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27360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68080" y="1413000"/>
            <a:ext cx="27360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1240" y="1413000"/>
            <a:ext cx="27360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94920" y="3874680"/>
            <a:ext cx="27360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68080" y="3874680"/>
            <a:ext cx="27360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1240" y="3874680"/>
            <a:ext cx="27360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2E2D1-4EFD-438F-94FC-CE98D4965F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D168E-61E9-47AC-A091-9AD1AEB85F6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94920" y="1413000"/>
            <a:ext cx="849780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7D7A2-1471-485E-8E52-BE1B7FC6E32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A6E04-7417-438B-B71B-14A6F5CE1FF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414684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9480" y="1413000"/>
            <a:ext cx="414684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EE3A3-EB3D-41AD-AF11-818DF62C5AA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65383-75F1-42CA-8F25-E920C017DEF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435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D161E-ED2B-40D3-B7A6-D39F02AB7DE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414684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9480" y="1413000"/>
            <a:ext cx="414684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94920" y="3874680"/>
            <a:ext cx="414684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C37E1-6634-4D02-AB68-97B6195842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94920" y="1413000"/>
            <a:ext cx="849780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EA404-D389-4484-BA60-6B9969E6B7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414684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9480" y="1413000"/>
            <a:ext cx="414684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49480" y="3874680"/>
            <a:ext cx="414684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ECFFA-7A6D-4782-88D7-F239EA0AD40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414684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9480" y="1413000"/>
            <a:ext cx="414684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94920" y="3874680"/>
            <a:ext cx="8497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1AE5D-FDAB-40D8-859A-76333AFC160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94920" y="3874680"/>
            <a:ext cx="8497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AB04E-1CFE-4D32-9BF6-4478844ABAF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414684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49480" y="1413000"/>
            <a:ext cx="414684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94920" y="3874680"/>
            <a:ext cx="414684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49480" y="3874680"/>
            <a:ext cx="414684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DFF36-B510-433D-A492-B75F86141E6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27360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68080" y="1413000"/>
            <a:ext cx="27360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41240" y="1413000"/>
            <a:ext cx="27360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94920" y="3874680"/>
            <a:ext cx="27360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68080" y="3874680"/>
            <a:ext cx="27360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41240" y="3874680"/>
            <a:ext cx="27360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DDE82-8EDD-4B25-BB30-B55E5D8DED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84E94-FA5C-46AD-BA7D-F915D02B89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414684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9480" y="1413000"/>
            <a:ext cx="414684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2DD3A-8B15-49FF-83D5-3167F83883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B52A2-7F99-4073-808B-7881B0DC7E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435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F5FEE-DF31-41BB-AED5-F1A8F89242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414684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9480" y="1413000"/>
            <a:ext cx="414684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4920" y="3874680"/>
            <a:ext cx="414684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45F22-6DF2-49F9-9796-E7224D817A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414684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9480" y="1413000"/>
            <a:ext cx="414684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9480" y="3874680"/>
            <a:ext cx="414684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E2E93-8A20-45B3-9904-E9A1C24778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414684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9480" y="1413000"/>
            <a:ext cx="414684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94920" y="3874680"/>
            <a:ext cx="8497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9E356-6A19-456B-B2A9-3C20A53F0C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4920" y="1413000"/>
            <a:ext cx="8497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97720"/>
            <a:ext cx="9144000" cy="260280"/>
          </a:xfrm>
          <a:prstGeom prst="rect">
            <a:avLst/>
          </a:prstGeom>
          <a:gradFill rotWithShape="0">
            <a:gsLst>
              <a:gs pos="0">
                <a:srgbClr val="993300"/>
              </a:gs>
              <a:gs pos="100000">
                <a:srgbClr val="8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9772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c0c0"/>
                </a:solidFill>
                <a:latin typeface="Tahoma"/>
              </a:rPr>
              <a:t>DAE Tagung|14.09.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901920" y="659736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c0c0c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4FB2F-34AF-4B68-A367-5896B0BCEF15}" type="slidenum">
              <a:rPr b="0" lang="de-DE" sz="1000" spc="-1" strike="noStrike">
                <a:solidFill>
                  <a:srgbClr val="c0c0c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dachslogo5groß" descr=""/>
          <p:cNvPicPr/>
          <p:nvPr/>
        </p:nvPicPr>
        <p:blipFill>
          <a:blip r:embed="rId2">
            <a:lum bright="80000"/>
          </a:blip>
          <a:srcRect l="0" t="0" r="21993" b="50525"/>
          <a:stretch/>
        </p:blipFill>
        <p:spPr>
          <a:xfrm>
            <a:off x="7897680" y="6224760"/>
            <a:ext cx="1195560" cy="299880"/>
          </a:xfrm>
          <a:prstGeom prst="rect">
            <a:avLst/>
          </a:prstGeom>
          <a:ln w="0">
            <a:noFill/>
          </a:ln>
        </p:spPr>
      </p:pic>
      <p:grpSp>
        <p:nvGrpSpPr>
          <p:cNvPr id="6" name=""/>
          <p:cNvGrpSpPr/>
          <p:nvPr/>
        </p:nvGrpSpPr>
        <p:grpSpPr>
          <a:xfrm>
            <a:off x="88920" y="6002280"/>
            <a:ext cx="1212840" cy="522360"/>
            <a:chOff x="88920" y="6002280"/>
            <a:chExt cx="1212840" cy="522360"/>
          </a:xfrm>
        </p:grpSpPr>
        <p:pic>
          <p:nvPicPr>
            <p:cNvPr id="7" name="dzfa-logo" descr=""/>
            <p:cNvPicPr/>
            <p:nvPr/>
          </p:nvPicPr>
          <p:blipFill>
            <a:blip r:embed="rId3">
              <a:lum bright="66000"/>
            </a:blip>
            <a:stretch/>
          </p:blipFill>
          <p:spPr>
            <a:xfrm>
              <a:off x="88920" y="6002280"/>
              <a:ext cx="48276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dkfz-logo" descr=""/>
            <p:cNvPicPr/>
            <p:nvPr/>
          </p:nvPicPr>
          <p:blipFill>
            <a:blip r:embed="rId4">
              <a:lum bright="20000"/>
            </a:blip>
            <a:srcRect l="13229" t="13214" r="10394" b="0"/>
            <a:stretch/>
          </p:blipFill>
          <p:spPr>
            <a:xfrm>
              <a:off x="685800" y="6269040"/>
              <a:ext cx="615960" cy="255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6597720"/>
            <a:ext cx="9144000" cy="260280"/>
          </a:xfrm>
          <a:prstGeom prst="rect">
            <a:avLst/>
          </a:prstGeom>
          <a:gradFill rotWithShape="0">
            <a:gsLst>
              <a:gs pos="0">
                <a:srgbClr val="993300"/>
              </a:gs>
              <a:gs pos="100000">
                <a:srgbClr val="8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2"/>
          </p:nvPr>
        </p:nvSpPr>
        <p:spPr>
          <a:xfrm>
            <a:off x="6901920" y="659736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c0c0c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61369-8E67-4539-A71F-0B78AAF4DC57}" type="slidenum">
              <a:rPr b="0" lang="de-DE" sz="1000" spc="-1" strike="noStrike">
                <a:solidFill>
                  <a:srgbClr val="c0c0c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88920" y="6002280"/>
            <a:ext cx="1212840" cy="522360"/>
            <a:chOff x="88920" y="6002280"/>
            <a:chExt cx="1212840" cy="522360"/>
          </a:xfrm>
        </p:grpSpPr>
        <p:pic>
          <p:nvPicPr>
            <p:cNvPr id="49" name="dzfa-logo" descr=""/>
            <p:cNvPicPr/>
            <p:nvPr/>
          </p:nvPicPr>
          <p:blipFill>
            <a:blip r:embed="rId2">
              <a:lum bright="66000"/>
            </a:blip>
            <a:stretch/>
          </p:blipFill>
          <p:spPr>
            <a:xfrm>
              <a:off x="88920" y="6002280"/>
              <a:ext cx="48276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dkfz-logo" descr=""/>
            <p:cNvPicPr/>
            <p:nvPr/>
          </p:nvPicPr>
          <p:blipFill>
            <a:blip r:embed="rId3">
              <a:lum bright="20000"/>
            </a:blip>
            <a:srcRect l="13229" t="13214" r="10394" b="0"/>
            <a:stretch/>
          </p:blipFill>
          <p:spPr>
            <a:xfrm>
              <a:off x="685800" y="6269040"/>
              <a:ext cx="61596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"/>
          <p:cNvSpPr/>
          <p:nvPr/>
        </p:nvSpPr>
        <p:spPr>
          <a:xfrm>
            <a:off x="0" y="659772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c0c0"/>
                </a:solidFill>
                <a:latin typeface="Tahoma"/>
              </a:rPr>
              <a:t>DAE Tagung |14.09.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00000"/>
                </a:solidFill>
                <a:latin typeface="Tahoma"/>
              </a:rPr>
              <a:t>Materials and Methods: </a:t>
            </a:r>
            <a:br>
              <a:rPr sz="3200"/>
            </a:br>
            <a:r>
              <a:rPr b="0" lang="de-DE" sz="3200" spc="-1" strike="noStrike">
                <a:solidFill>
                  <a:srgbClr val="800000"/>
                </a:solidFill>
                <a:latin typeface="Tahoma"/>
              </a:rPr>
              <a:t>Study design/region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5015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 population-based case-control study: DACHS study –</a:t>
            </a: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DA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rmkrebs: </a:t>
            </a: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CH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ncen der Verhütung durch </a:t>
            </a: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cree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Collaborating partners: DZFA and DKF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Funding: DF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tudy period: Januar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2003 - </a:t>
            </a:r>
            <a:r>
              <a:rPr b="0" lang="de-DE" sz="2800" spc="-1" strike="noStrike">
                <a:solidFill>
                  <a:srgbClr val="c0c0c0"/>
                </a:solidFill>
                <a:latin typeface="Tahoma"/>
              </a:rPr>
              <a:t>June 20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037120" y="3352680"/>
            <a:ext cx="4106880" cy="2897280"/>
          </a:xfrm>
          <a:prstGeom prst="rect">
            <a:avLst/>
          </a:prstGeom>
          <a:ln w="0">
            <a:noFill/>
          </a:ln>
        </p:spPr>
      </p:pic>
      <p:grpSp>
        <p:nvGrpSpPr>
          <p:cNvPr id="91" name=""/>
          <p:cNvGrpSpPr/>
          <p:nvPr/>
        </p:nvGrpSpPr>
        <p:grpSpPr>
          <a:xfrm>
            <a:off x="6095880" y="1371600"/>
            <a:ext cx="2133720" cy="1905120"/>
            <a:chOff x="6095880" y="1371600"/>
            <a:chExt cx="2133720" cy="1905120"/>
          </a:xfrm>
        </p:grpSpPr>
        <p:pic>
          <p:nvPicPr>
            <p:cNvPr id="92" name="deutschland_gebiet" descr=""/>
            <p:cNvPicPr/>
            <p:nvPr/>
          </p:nvPicPr>
          <p:blipFill>
            <a:blip r:embed="rId2"/>
            <a:stretch/>
          </p:blipFill>
          <p:spPr>
            <a:xfrm>
              <a:off x="6166440" y="1637280"/>
              <a:ext cx="2012400" cy="157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6168240" y="1415520"/>
              <a:ext cx="20610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095880" y="1371600"/>
              <a:ext cx="2133720" cy="19051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7AC53-D186-477D-AB8C-51215C6487B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151920"/>
            <a:ext cx="84358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00000"/>
                </a:solidFill>
                <a:latin typeface="Tahoma"/>
              </a:rPr>
              <a:t>Materials and Methods: Study population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497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Inclusion criteria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ged 30 years and above and German speak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Residing within study reg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Mentally and physically capable of completing the intervie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Cas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Incident cases of invasive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 total of 1760 cases recruited (</a:t>
            </a:r>
            <a:r>
              <a:rPr b="0" i="1" lang="de-DE" sz="2000" spc="-1" strike="noStrike">
                <a:solidFill>
                  <a:srgbClr val="000000"/>
                </a:solidFill>
                <a:latin typeface="Tahoma"/>
              </a:rPr>
              <a:t>by end of June 2007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50% of expected (extrapulated from Saarland cancer regis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Controls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randomly selected from population regis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Matched to cases by 5-year age group, sex and county of residenc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No previous history of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 total of 1500 controls (40% of eligible controls) had a complete face-to-face intervie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nother 352 (25% of eligible controls) completed a short questionna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39A78-E3C2-4455-8A7D-BA70D08F12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00000"/>
                </a:solidFill>
                <a:latin typeface="Tahoma"/>
              </a:rPr>
              <a:t>Materials and Methods: Questionnaire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ata was collected by trained interview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ubjects provided information on demograph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nd risk factors for colorectal canc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etailed information on life-time active smoking history was obtained allowing for changes in smoking habits in six pha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History of life-time exposure to passive smoking was also ascertained for childhood exposure (&lt;18 years) and adulthood exposure (spouse and work) in five pha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AE31D-EF68-4003-8E2B-8E81FB166D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800000"/>
                </a:solidFill>
                <a:latin typeface="Tahoma"/>
              </a:rPr>
              <a:t>Data</a:t>
            </a:r>
            <a:endParaRPr b="0" lang="en-US" sz="36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4981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potential confounder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level of education based on DAE recommendations (continuou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family history of CRC in 1st degree relativ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M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fruits and vegetable int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red meat consump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NSAIDs u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lifetime physical a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lifetime alcohol consumption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history of colonoscopy/sigmoidoscop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7E7F4-422D-4560-B439-9D8E7633EA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7T12:17:49Z</dcterms:created>
  <dc:creator>Goetz</dc:creator>
  <dc:description/>
  <dc:language>en-US</dc:language>
  <cp:lastModifiedBy>JCC</cp:lastModifiedBy>
  <dcterms:modified xsi:type="dcterms:W3CDTF">2007-07-18T11:37:28Z</dcterms:modified>
  <cp:revision>81</cp:revision>
  <dc:subject/>
  <dc:title>Folie 1</dc:title>
</cp:coreProperties>
</file>