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292-0512-4C62-B98A-BDF2E3B1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123-904F-4C24-9A15-247AA658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E44-753E-44F5-80C5-A747201B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6C3-037F-45FB-BC05-65F839B0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B229-CE70-4885-94BF-6DFFB399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2788-235B-41BE-976B-A2FADF1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89C4-6058-4543-AE7B-8641D1F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3FC1-453B-45F8-8A1C-6684FD95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7468-23FC-4D9E-86E6-91BA6AA9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3A95-F2BF-4961-81ED-1C199C83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1E17-E059-4967-A883-C77F030D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EC5-F6C1-4E87-8042-1C93160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BDBE-49CC-4C29-A032-6CC3BEA2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FD78-08AC-409E-A291-F532624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E933-F51A-48AC-8A65-C09DD92B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6FF9-FF98-42B3-AD04-7B763EBD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DED7-896B-4A27-8282-F106BF59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F38-D9E3-43CC-B188-FC56BA93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0CA-6466-4CF3-ACD3-8142487E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ABE-6694-44E2-A90E-CA00AC08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6AC-4F95-454E-875C-51EA02A3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FD4-030A-4C3E-A137-69AE176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A89-1318-491C-8CB7-33DEABD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A8F-4E26-4D25-9298-00374908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4BC1-96C5-464D-9E60-7CD935E8AB4D}" type="slidenum">
              <a:rPr b="0" lang="e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D7DD-A580-42AA-A04D-1271AEEF9D05}" type="slidenum">
              <a:rPr b="0" lang="e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Genetic epidemiology studies of colorectal cance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3520" y="3581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Victor Moreno</a:t>
            </a:r>
            <a:br>
              <a:rPr sz="4000"/>
            </a:b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atalan Institute of Oncology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University of Barcelona, Barcelona,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50520"/>
            <a:ext cx="677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ncer pathway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874880"/>
            <a:ext cx="772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lamm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ll cyc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tabolism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NA repai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3505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TABO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ther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ognostic predictor   - AGEN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gilent 44K microarray on stage II tum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rmal - Adenoma –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stom 1.2K microarr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LDI-TOF analysis of plas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NTERICO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2007-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Mi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TER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-WATE FP6 STR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pital based case-control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target (2009)  500 cases / 500 contr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rivatives of water 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cal samples (blood + tumo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piloting, recruitment starts Septe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extension to 2000+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ECC Stud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1998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tephen B. Gruber – 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Gadi Rennert –T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control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 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es (n=21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ident, with pathology confirmation at 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s (n=21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ly matched by age, gender, ethnicity and clin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pled from primary health care system (70% coverage), excellent participation r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ve epidemiological questionn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family history (kin-cohor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od from all cases and contr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A (genomic and WG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ffin blocks from all cases - M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sh frozen tumor from 700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0200" y="3429000"/>
            <a:ext cx="4670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Biological sampl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WG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ase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00 cases / 500 controls (Ashkenazi Jewis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led DNA 6 ca/6 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legen 360K c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000 most significant SNPs individually genotyped. 3000 validated (p&lt;0.05) pa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ase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00 cases / 1500 controls (all ethnic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00 SNPs + 2000 supplemented for fine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330280" y="1434960"/>
          <a:ext cx="5042160" cy="35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1434960"/>
                    <a:ext cx="50421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32772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RC hereditary suscepti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36600" y="6165720"/>
            <a:ext cx="51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rt RW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evention and Early Detection of CR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5560" y="2495520"/>
            <a:ext cx="15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rad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5%–8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14040" y="32958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ia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0%–3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57880" y="45133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NPCC (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14520" y="5288040"/>
            <a:ext cx="31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82520" y="422424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re syndromes (&lt;0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18480" y="3413160"/>
            <a:ext cx="307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13120" y="4811760"/>
            <a:ext cx="1800" cy="54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43360" y="4691160"/>
            <a:ext cx="8017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03640" y="2781360"/>
            <a:ext cx="471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4595760"/>
            <a:ext cx="782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rot="16200000">
            <a:off x="4251960" y="832680"/>
            <a:ext cx="1112760" cy="4187520"/>
          </a:xfrm>
          <a:prstGeom prst="blockArc">
            <a:avLst>
              <a:gd name="adj1" fmla="val 4561932"/>
              <a:gd name="adj2" fmla="val 6238068"/>
              <a:gd name="adj3" fmla="val 49060"/>
            </a:avLst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2708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4365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46814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35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tic contribution to CR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8577" t="7837" r="8547" b="7472"/>
          <a:stretch/>
        </p:blipFill>
        <p:spPr>
          <a:xfrm>
            <a:off x="457200" y="1503360"/>
            <a:ext cx="6400800" cy="5230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086600" y="608004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000" spc="-1" strike="noStrike">
                <a:solidFill>
                  <a:srgbClr val="000000"/>
                </a:solidFill>
                <a:latin typeface="Arial"/>
              </a:rPr>
              <a:t>Albert de la Chapelle </a:t>
            </a:r>
            <a:r>
              <a:rPr b="1" i="1" lang="en" sz="1000" spc="-1" strike="noStrike">
                <a:solidFill>
                  <a:srgbClr val="000000"/>
                </a:solidFill>
                <a:latin typeface="Arial"/>
              </a:rPr>
              <a:t>Nature Reviews Cancer</a:t>
            </a:r>
            <a:r>
              <a:rPr b="0" i="1" lang="en" sz="1000" spc="-1" strike="noStrike">
                <a:solidFill>
                  <a:srgbClr val="000000"/>
                </a:solidFill>
                <a:latin typeface="Arial"/>
              </a:rPr>
              <a:t> 2004; 4: 769-80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ellvitge Colorectal Cancer Stud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1996-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 control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pital 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es (n=43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ident, with pathology confi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s (n=4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cy matched by age and g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diagnoses (incid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agnoses of contr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medici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ute surge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stroenter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thopedic surge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diology &amp; respirato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sonal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866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and family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style: alcohol, smoking, physical exerc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ological s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od (cases &amp; contro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mor tissue and normal mucosa (cases undergoing surge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quality DN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77 (86% cases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26 (79% contro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ffin blocks of all of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677880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ndidate gene approa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evant pathways for CR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morphisms reported to data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ele frequency &gt; 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or dat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ion to ca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al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tor Moreno</cp:lastModifiedBy>
  <dcterms:modified xsi:type="dcterms:W3CDTF">2007-07-18T08:20:57Z</dcterms:modified>
  <cp:revision>158</cp:revision>
  <dc:subject/>
  <dc:title>PowerPoint Presentation</dc:title>
</cp:coreProperties>
</file>