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04D1-4865-431F-9AE3-FC61DEF7FB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3858-5C6C-4DD0-B9BC-F470070EDAC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3AF0-FD69-425E-BA80-8A5CF47507A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FE83-0622-4635-8E59-8CD78D8E356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2EE0-0EC0-4D5B-9B8D-91250AD7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0F1B-A6B7-4F4A-A73E-1F2BF5E4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BAF-D1AF-4816-B8E8-3E062526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593-71E4-4DFC-9907-4F1737AF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07C-E481-4339-B8C8-ED775C0A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67EB-4E15-4C23-BDF1-849FB614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8AAE-AAF1-47DF-A933-D83513DF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B20F-6320-40A7-BC49-5AF2BB28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DD3-09BB-4B88-B254-F64CDE8E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1E2-C474-45F4-91B9-252B4610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614E-B2EB-4E32-91B0-4D071334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5AA1-3BFA-4D93-9E46-A7FFC549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7A98-35E5-42B5-BCE7-1C64F78E866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Colorectal Cancer Case-Control Consort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Inst. Exper. Medicine, Acad. Sci. CZ and National Inst. Public Health, Pra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28600" y="990720"/>
            <a:ext cx="86104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 Czech Republic, CRC represents a serious health problem (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Janout and Kollarova, 2001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incidence ranks the third highest worldwide and the incidence of rectal cancer is the highest (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arkin et al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.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3"/>
          <p:cNvSpPr/>
          <p:nvPr/>
        </p:nvSpPr>
        <p:spPr>
          <a:xfrm>
            <a:off x="468360" y="836640"/>
            <a:ext cx="7273800" cy="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3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3399"/>
                </a:solidFill>
                <a:latin typeface="Arial"/>
              </a:rPr>
              <a:t>Colorectal cancer (CRC): relevance in Czech Republ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09480" y="6004080"/>
            <a:ext cx="648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Arial"/>
              </a:rPr>
              <a:t>IARC, GLOBOCAN 2002. Cancer Incidence, Mortality and Prevalence Worldwide (2002 estimates) 200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0"/>
          <p:cNvGrpSpPr/>
          <p:nvPr/>
        </p:nvGrpSpPr>
        <p:grpSpPr>
          <a:xfrm>
            <a:off x="533520" y="2057400"/>
            <a:ext cx="7924680" cy="3962160"/>
            <a:chOff x="533520" y="2057400"/>
            <a:chExt cx="7924680" cy="3962160"/>
          </a:xfrm>
        </p:grpSpPr>
        <p:sp>
          <p:nvSpPr>
            <p:cNvPr id="55" name="Rectangle 9"/>
            <p:cNvSpPr/>
            <p:nvPr/>
          </p:nvSpPr>
          <p:spPr>
            <a:xfrm>
              <a:off x="533520" y="2057400"/>
              <a:ext cx="7924680" cy="396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6" name="Object 6"/>
            <p:cNvGraphicFramePr/>
            <p:nvPr/>
          </p:nvGraphicFramePr>
          <p:xfrm>
            <a:off x="684360" y="2131920"/>
            <a:ext cx="4103640" cy="3800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2131920"/>
                      <a:ext cx="4103640" cy="380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8" name="Picture 7" descr="cs_bo_f1"/>
            <p:cNvPicPr/>
            <p:nvPr/>
          </p:nvPicPr>
          <p:blipFill>
            <a:blip r:embed="rId3"/>
            <a:srcRect l="105" t="8123" r="2215" b="3678"/>
            <a:stretch/>
          </p:blipFill>
          <p:spPr>
            <a:xfrm>
              <a:off x="4589640" y="2120760"/>
              <a:ext cx="3654360" cy="381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Text Box 11"/>
          <p:cNvSpPr/>
          <p:nvPr/>
        </p:nvSpPr>
        <p:spPr>
          <a:xfrm>
            <a:off x="6852240" y="6431040"/>
            <a:ext cx="202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Pavel Vodicka 11.07.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"/>
          <p:cNvPicPr/>
          <p:nvPr/>
        </p:nvPicPr>
        <p:blipFill>
          <a:blip r:embed="rId4"/>
          <a:srcRect l="-1898" t="-13036" r="75969" b="16773"/>
          <a:stretch/>
        </p:blipFill>
        <p:spPr>
          <a:xfrm>
            <a:off x="6553080" y="6248520"/>
            <a:ext cx="349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95280" y="1125360"/>
            <a:ext cx="7561440" cy="39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During the period 2004-2006, samples from 11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cological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gastroenterological departments all over the Czech Republic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have been collect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884 CRC cases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 confirmed by 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colon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scopy and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histological examination were analyzed, 1193 cases are available at 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598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ontrols with negativ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lonoscopic results for malignancy or idiopathic bowel dis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823 controls from the general, cancer-free population (ambiguousity in control´s recruitment)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95280" y="333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CRC study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468360" y="838080"/>
            <a:ext cx="7273800" cy="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74760" y="5721480"/>
            <a:ext cx="8229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532 CRC patients</a:t>
            </a:r>
            <a:r>
              <a:rPr b="1" lang="it-IT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532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 rot="5400000">
            <a:off x="3995280" y="4292280"/>
            <a:ext cx="792000" cy="792360"/>
          </a:xfrm>
          <a:prstGeom prst="pi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492360" y="591192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x- and age-m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3276720" y="5734080"/>
            <a:ext cx="73080" cy="790560"/>
          </a:xfrm>
          <a:custGeom>
            <a:avLst/>
            <a:gdLst>
              <a:gd name="textAreaLeft" fmla="*/ 0 w 73080"/>
              <a:gd name="textAreaRight" fmla="*/ 26280 w 7308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45400" y="5181480"/>
            <a:ext cx="276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esent data are based 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6852240" y="6431040"/>
            <a:ext cx="202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Pavel Vodicka 11.07.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7" descr=""/>
          <p:cNvPicPr/>
          <p:nvPr/>
        </p:nvPicPr>
        <p:blipFill>
          <a:blip r:embed="rId1"/>
          <a:srcRect l="-1898" t="-13036" r="75969" b="16773"/>
          <a:stretch/>
        </p:blipFill>
        <p:spPr>
          <a:xfrm>
            <a:off x="6553080" y="6248520"/>
            <a:ext cx="349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66760" y="329040"/>
            <a:ext cx="74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Selected characteristics of </a:t>
            </a:r>
            <a:r>
              <a:rPr b="1" lang="cs-CZ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the study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90720" y="1268280"/>
          <a:ext cx="6289560" cy="4657680"/>
        </p:xfrm>
        <a:graphic>
          <a:graphicData uri="http://schemas.openxmlformats.org/drawingml/2006/table">
            <a:tbl>
              <a:tblPr/>
              <a:tblGrid>
                <a:gridCol w="1377720"/>
                <a:gridCol w="1195560"/>
                <a:gridCol w="1193760"/>
                <a:gridCol w="1328760"/>
                <a:gridCol w="1193760"/>
              </a:tblGrid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s (n=53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ca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=53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n cancer (n=33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tal canc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=197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Se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M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6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em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e at diagnosis (year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an±S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7.4±12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8.5±10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8.5±10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8.4±9.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an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9-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6-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6-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6-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66ffff"/>
                          </a:solidFill>
                          <a:latin typeface="Arial"/>
                          <a:ea typeface="Times New Roman"/>
                        </a:rPr>
                        <a:t>Smoking 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66ffff"/>
                          </a:solidFill>
                          <a:latin typeface="Arial"/>
                          <a:ea typeface="Times New Roman"/>
                        </a:rPr>
                        <a:t>Non-smoke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66ffff"/>
                          </a:solidFill>
                          <a:latin typeface="Arial"/>
                          <a:ea typeface="Times New Roman"/>
                        </a:rPr>
                        <a:t>71.7% (35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66ffff"/>
                          </a:solidFill>
                          <a:latin typeface="Arial"/>
                          <a:ea typeface="Times New Roman"/>
                        </a:rPr>
                        <a:t>73.2% (37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66ffff"/>
                          </a:solidFill>
                          <a:latin typeface="Arial"/>
                          <a:ea typeface="Times New Roman"/>
                        </a:rPr>
                        <a:t>75.6% (24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66ffff"/>
                          </a:solidFill>
                          <a:latin typeface="Arial"/>
                          <a:ea typeface="Times New Roman"/>
                        </a:rPr>
                        <a:t>69.1% (13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66ffff"/>
                          </a:solidFill>
                          <a:latin typeface="Arial"/>
                          <a:ea typeface="Times New Roman"/>
                        </a:rPr>
                        <a:t>Current smoke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66ffff"/>
                          </a:solidFill>
                          <a:latin typeface="Arial"/>
                          <a:ea typeface="Times New Roman"/>
                        </a:rPr>
                        <a:t>28.3% (14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66ffff"/>
                          </a:solidFill>
                          <a:latin typeface="Arial"/>
                          <a:ea typeface="Times New Roman"/>
                        </a:rPr>
                        <a:t>26.8% (136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66ffff"/>
                          </a:solidFill>
                          <a:latin typeface="Arial"/>
                          <a:ea typeface="Times New Roman"/>
                        </a:rPr>
                        <a:t>24.4% (7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66ffff"/>
                          </a:solidFill>
                          <a:latin typeface="Arial"/>
                          <a:ea typeface="Times New Roman"/>
                        </a:rPr>
                        <a:t>30.9% (5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Line 69"/>
          <p:cNvSpPr/>
          <p:nvPr/>
        </p:nvSpPr>
        <p:spPr>
          <a:xfrm>
            <a:off x="322200" y="836640"/>
            <a:ext cx="7274160" cy="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6852240" y="6431040"/>
            <a:ext cx="202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Pavel Vodicka 11.07.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7" descr=""/>
          <p:cNvPicPr/>
          <p:nvPr/>
        </p:nvPicPr>
        <p:blipFill>
          <a:blip r:embed="rId1"/>
          <a:srcRect l="-1898" t="-13036" r="75969" b="16773"/>
          <a:stretch/>
        </p:blipFill>
        <p:spPr>
          <a:xfrm>
            <a:off x="6553080" y="6248520"/>
            <a:ext cx="349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539640" y="33192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CRC cases according to</a:t>
            </a:r>
            <a:r>
              <a:rPr b="1" lang="cs-CZ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gender</a:t>
            </a:r>
            <a:r>
              <a:rPr b="1" lang="cs-CZ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,</a:t>
            </a:r>
            <a:r>
              <a:rPr b="1" lang="en-GB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age</a:t>
            </a:r>
            <a:r>
              <a:rPr b="1" lang="cs-CZ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and tumor loc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611280" y="1197000"/>
            <a:ext cx="7921440" cy="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755640" y="4149720"/>
            <a:ext cx="4924440" cy="2532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3203640" y="1413000"/>
            <a:ext cx="5400720" cy="2663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6"/>
          <p:cNvSpPr/>
          <p:nvPr/>
        </p:nvSpPr>
        <p:spPr>
          <a:xfrm>
            <a:off x="6852240" y="6431040"/>
            <a:ext cx="202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Pavel Vodicka 11.07.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7" descr=""/>
          <p:cNvPicPr/>
          <p:nvPr/>
        </p:nvPicPr>
        <p:blipFill>
          <a:blip r:embed="rId3"/>
          <a:srcRect l="-1898" t="-13036" r="75969" b="16773"/>
          <a:stretch/>
        </p:blipFill>
        <p:spPr>
          <a:xfrm>
            <a:off x="6553080" y="6248520"/>
            <a:ext cx="349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08:08:13Z</dcterms:created>
  <dc:creator>Pavel Vodička</dc:creator>
  <dc:description/>
  <dc:language>en-US</dc:language>
  <cp:lastModifiedBy>Pavel Vodička</cp:lastModifiedBy>
  <dcterms:modified xsi:type="dcterms:W3CDTF">2007-07-18T11:35:43Z</dcterms:modified>
  <cp:revision>10</cp:revision>
  <dc:subject/>
  <dc:title>Snímek 1</dc:title>
</cp:coreProperties>
</file>